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0B12-CF1A-4C4B-80C1-2C81E865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87B-C7B0-4A85-843D-356DBC03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EBE-3F39-4248-B8DB-A3CEFDA7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284-E7FA-485B-98DA-9C7D6D96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2C2D-AA01-4960-9A6B-805897BA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472-7EB3-41E2-85D6-6C87E281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2673-9745-415A-8C9D-84F19C71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66D-E1E4-4F63-8FB6-0C367B35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CDD-1957-42B4-8123-EE9A5362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B3F-A4B7-49BC-80B9-B8CD9B7D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C01-23C7-4ED0-BD4C-73705DB6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606C-E95B-4BD2-8DFF-821822B3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57A0-7EDC-46FE-A79D-B175BA071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прогрес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5370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рифмети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рифметической прогрессией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называется последовательность, каждый член которой, начиная со второго, получается прибавление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 предыдущему одного и того же числа. (называемого разностью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1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а</a:t>
            </a:r>
            <a:r>
              <a:rPr b="1" i="1" lang="en-US" sz="4000" spc="-1" strike="noStrike" baseline="-25000">
                <a:solidFill>
                  <a:srgbClr val="000099"/>
                </a:solidFill>
                <a:latin typeface="Arial"/>
              </a:rPr>
              <a:t>n</a:t>
            </a:r>
            <a:r>
              <a:rPr b="1" i="1" lang="ru-RU" sz="4000" spc="-1" strike="noStrike" baseline="-25000">
                <a:solidFill>
                  <a:srgbClr val="000099"/>
                </a:solidFill>
                <a:latin typeface="Arial"/>
              </a:rPr>
              <a:t>+1</a:t>
            </a:r>
            <a:r>
              <a:rPr b="1" i="1" lang="en-US" sz="4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а</a:t>
            </a:r>
            <a:r>
              <a:rPr b="1" i="1" lang="en-US" sz="4000" spc="-1" strike="noStrike" baseline="-25000">
                <a:solidFill>
                  <a:srgbClr val="000099"/>
                </a:solidFill>
                <a:latin typeface="Arial"/>
              </a:rPr>
              <a:t>n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 +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1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i="1" lang="en-US" sz="4000" spc="-1" strike="noStrike" baseline="-25000">
                <a:solidFill>
                  <a:srgbClr val="000099"/>
                </a:solidFill>
                <a:latin typeface="Arial"/>
              </a:rPr>
              <a:t>n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= </a:t>
            </a: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а</a:t>
            </a:r>
            <a:r>
              <a:rPr b="1" i="1" lang="ru-RU" sz="40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 + 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d(n –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1640" y="1052280"/>
            <a:ext cx="44290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Геометри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Геометрической прогрессией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 называется последовательность, каждый член которой, начиная со второго, равен предыдущему члену, умноженному на одно и то же не равное нулю число. (называемого знаменателе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2.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i="1" lang="en-US" sz="4000" spc="-1" strike="noStrike" baseline="-25000">
                <a:solidFill>
                  <a:srgbClr val="ff0066"/>
                </a:solidFill>
                <a:latin typeface="Arial"/>
              </a:rPr>
              <a:t>n</a:t>
            </a:r>
            <a:r>
              <a:rPr b="1" i="1" lang="ru-RU" sz="4000" spc="-1" strike="noStrike" baseline="-25000">
                <a:solidFill>
                  <a:srgbClr val="ff0066"/>
                </a:solidFill>
                <a:latin typeface="Arial"/>
              </a:rPr>
              <a:t>+1</a:t>
            </a:r>
            <a:r>
              <a:rPr b="1" i="1" lang="en-US" sz="4000" spc="-1" strike="noStrike" baseline="-25000">
                <a:solidFill>
                  <a:srgbClr val="ff0066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=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 b</a:t>
            </a:r>
            <a:r>
              <a:rPr b="1" i="1" lang="en-US" sz="4000" spc="-1" strike="noStrike" baseline="-25000">
                <a:solidFill>
                  <a:srgbClr val="ff0066"/>
                </a:solidFill>
                <a:latin typeface="Arial"/>
              </a:rPr>
              <a:t>n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∙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 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.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i="1" lang="en-US" sz="4000" spc="-1" strike="noStrike" baseline="-25000">
                <a:solidFill>
                  <a:srgbClr val="ff0066"/>
                </a:solidFill>
                <a:latin typeface="Arial"/>
              </a:rPr>
              <a:t>n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= b</a:t>
            </a:r>
            <a:r>
              <a:rPr b="1" i="1" lang="en-US" sz="40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∙ q</a:t>
            </a:r>
            <a:r>
              <a:rPr b="1" i="1" lang="en-US" sz="40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n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07920"/>
            <a:ext cx="0" cy="595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ЯМБ</a:t>
            </a:r>
            <a:br>
              <a:rPr sz="36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«Мой дядя самых честных правил» </a:t>
            </a: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; 4; 6; 8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…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ХОРЕЙ</a:t>
            </a:r>
            <a:br>
              <a:rPr sz="36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« Буря мглою небо кроет»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; 3; 5; 7;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07:54:08Z</dcterms:created>
  <dc:creator>информатика</dc:creator>
  <dc:description/>
  <dc:language>en-US</dc:language>
  <cp:lastModifiedBy>информатика</cp:lastModifiedBy>
  <dcterms:modified xsi:type="dcterms:W3CDTF">2009-02-22T11:52:20Z</dcterms:modified>
  <cp:revision>4</cp:revision>
  <dc:subject/>
  <dc:title>прогрессии</dc:title>
</cp:coreProperties>
</file>